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C3B2-BCA6-4D33-8472-C5FD2C5F57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30DD-8BE4-4DB8-B97C-45751F3FF73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7FA-9ED7-4A30-9CD2-6AEC3C78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591-6BB5-43E4-86CC-61F103A3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4559-AEF9-497F-A8E1-5FD2C051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725-9797-4203-8F9F-2E411447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ACDD-C719-4ADF-875A-8629392F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86F1-FC13-459B-A148-10A94D28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65BE-3262-44D9-8BE5-6690010C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999C-84E5-4970-A272-4DA48E80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B205-9AA5-413C-A165-0C633878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A8FF-A124-490F-AF89-1D053B9B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D249-F109-4FD5-805F-344C476F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D89-5361-4A26-A9B0-21704A9C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7110-A9F2-4777-937B-721C0906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E4D5-99B0-418A-B42E-907F5565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0A9E-BB0D-4A79-901D-BD8C9E4B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916E-0359-4137-859E-94BE3503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F397-878C-45ED-97F3-08A29FB2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768-7BDB-4B81-9EB8-F1435D17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57F-77FA-4350-8CC3-11FE5B69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117-0963-4028-A458-6CD66911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91B1-3700-4034-817C-A9E681A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B3F-5457-48EB-B696-AE761A9C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94E-00E5-41CB-9F45-37E956B4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95A-E913-4F43-B049-761276E5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9029-25B3-46DF-A214-22ABF5F2E07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0A57-B266-4020-94D0-7990404D9EF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8240" cy="12556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j0282886.gif"/>
          <p:cNvPicPr/>
          <p:nvPr/>
        </p:nvPicPr>
        <p:blipFill>
          <a:blip r:embed="rId2"/>
          <a:stretch/>
        </p:blipFill>
        <p:spPr>
          <a:xfrm>
            <a:off x="1785960" y="1797120"/>
            <a:ext cx="5786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ослевоенный период клуб стал одним из первых, применивших практику регулярных международных товарищеских встреч (Албания — 1946 и 1951 гг., Норвегия — 1950 г., а в 1953 г. — 14 игр против серьезных соперников: Чехословакия, Швеция, Венгрия, Румыния, Австрия, Польша, Болгария и Албания, 1954 г. — 21 игра с иностранными командами), что позволило всему советскому футболу получить и применять опыт европейских клубов в своей игровой практик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ад ФК «Спартак» в историю успеха российского футбола на международной арене спорта подтверждается и тем, что в 1956 г. советская сборная одержала победу на Олимпийских играх в Мельбурне, что стало триумфом советского футбола, заставившего весь мир обратить внимание на высокий уровень этого вида спорта в нашей стране. При этом стоит отметить, что в составе советской сборной того периода было десять игроков ФК «Спарта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66 г. ФК «Спартак» провел первый в истории советского футбола матч в зачет официальных международных соревнований — Кубок обладателей кубков, а в 1971 году спартаковцы стали пионерами в другом международном турнире — Кубке У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оветской футбольной истории ФК «Спартак» являлся одним из лидеров чемпионата СССР, игроки клуба становились кумирами молодежи, а результаты игры на международной арене привлекали к футболу все новых и новых болельщик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стал первой командой России, которая в 1990-х годах на постоянной основе участвовала в европейских футбольных турнирах и добивалась на них определенных успехов. Основными достижениями клуба на международной футбольной арене в российский период стали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чемпионов в сезон 1990—1991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кубков сезона 1992—1993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УЕФА сезона 1997—1998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а на Кубке Анталии в 2002 году («Эфес Пилсен Кап»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воей истории ФК «Спартак» оставался одним из лидеров советского и российского футбола, несмотря на периоды неудач, сумевшим сохранить игровой и волевой потенциал. История клуба и его заслуги заставляют всех соперников с особой тщательностью готовиться к будущим встречам с футболистами «Спартака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им из основных стимулов к победам является неизменная поддержка футбольных болельщиков, разделяющих с командой как спортивный триумф, так и минуты неудач. Строительство собственного стадиона станет бесценным подарком не только для спортсменов, но и для болельщиков, которые без сомнения будут рады собственной спортивной арене, в стенах которой они с максимальной отдачей смогут поддерживать любимую коман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87850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213[1].jpg"/>
          <p:cNvPicPr/>
          <p:nvPr/>
        </p:nvPicPr>
        <p:blipFill>
          <a:blip r:embed="rId1"/>
          <a:stretch/>
        </p:blipFill>
        <p:spPr>
          <a:xfrm>
            <a:off x="804960" y="353880"/>
            <a:ext cx="75898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215[1]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216[1]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Аршавин_1.jpg"/>
          <p:cNvPicPr/>
          <p:nvPr/>
        </p:nvPicPr>
        <p:blipFill>
          <a:blip r:embed="rId1"/>
          <a:stretch/>
        </p:blipFill>
        <p:spPr>
          <a:xfrm>
            <a:off x="1428840" y="17146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217_thumb[1].jpg"/>
          <p:cNvPicPr/>
          <p:nvPr/>
        </p:nvPicPr>
        <p:blipFill>
          <a:blip r:embed="rId1"/>
          <a:stretch/>
        </p:blipFill>
        <p:spPr>
          <a:xfrm>
            <a:off x="1285920" y="1500120"/>
            <a:ext cx="6786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Содержимое 3" descr="218_thumb[1]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russia_wins_sweden01.jpg"/>
          <p:cNvPicPr/>
          <p:nvPr/>
        </p:nvPicPr>
        <p:blipFill>
          <a:blip r:embed="rId1"/>
          <a:stretch/>
        </p:blipFill>
        <p:spPr>
          <a:xfrm>
            <a:off x="1643040" y="17859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3" descr="214[1]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0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ебедев Илья,5в класс, 10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Йошкар-Ола, 2008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!!! Самые неудачные моменты в футболе.wmv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392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5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52312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2"/>
          <p:cNvSpPr/>
          <p:nvPr/>
        </p:nvSpPr>
        <p:spPr>
          <a:xfrm>
            <a:off x="635796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-конечная звезда 3"/>
          <p:cNvSpPr/>
          <p:nvPr/>
        </p:nvSpPr>
        <p:spPr>
          <a:xfrm>
            <a:off x="192888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8525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8" descr="j0292476.wmf"/>
          <p:cNvPicPr/>
          <p:nvPr/>
        </p:nvPicPr>
        <p:blipFill>
          <a:blip r:embed="rId2"/>
          <a:stretch/>
        </p:blipFill>
        <p:spPr>
          <a:xfrm>
            <a:off x="2357280" y="1714680"/>
            <a:ext cx="6500880" cy="484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0_9226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6500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2" descr=""/>
          <p:cNvPicPr/>
          <p:nvPr/>
        </p:nvPicPr>
        <p:blipFill>
          <a:blip r:embed="rId1"/>
          <a:stretch/>
        </p:blipFill>
        <p:spPr>
          <a:xfrm>
            <a:off x="762120" y="0"/>
            <a:ext cx="7600680" cy="95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82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вета команды: красно-бел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жние назва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2 - МКС (Московский Клуб Спорта)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3-1925 - "Красная Пресн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6-1930 - "Пищевики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1-1933 - "Дукат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4 - "Промкоопераци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5-1988 -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C 1989 - ФК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новател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ФИО: Старостин Николай Петрови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Рождения: 26.02.19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Смерти: 17.02.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есто Рождения: Моск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мплуа: Нападающи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Страна: Россия/ССС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зненный пут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: Выступал в московских клубах МКС (1922), "Красная Пресня" (1923 - 1925), "Пищевики" (1926 - 1930), "Промкооперация" (1931, 1934), "Дукат" (1932 - 1933), "Спартак" (1935 - 1936)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чемпионатах СССР сыграл 1 матч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Москвы играл с 1926 по 1935 год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емпион РСФСР 1922, 1927, 1928, 1929, 1930, 1931 год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ице-чемпион РСФСР 1924 г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РСФСР играл с 1926 по 1931 год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Всесоюзной Спартакиады 1928, 1931, 1932, 1935 г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III рабочей Олимпиады в Антверпене и приза Всемирной выставки в Париже 1937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борной СССР сыграл 6 неофициальных матч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ик Спартака (Москва) в 1936 году, с 1955 по 1964 годы, с 1967 по 1975 годы и с 1977 по 1995 годы. Ответственный секретарь (1935-1936) и председатель правления МГС Спартак (1937 - март 1942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ю Старостину присвоено звание заслуженного мастера спорта и героя социалистического труда. Он был награждён тремя орденами Ленина, орденами Дружбы народов и За заслуги перед отечеством 3ей степен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Петрович человек, стоявший у истоков не только футбольной команды, но и всего российского спорта. Всех нас подкупала его демократичность, его доброта. Только в крайнем случае он употреблял власть, отчислял игрока из команды, но про этом не унижал человеческого достоинства, разговаривал по-отечески: ему никогда не была безразлична судьба, в которую вынужден вмешаться... Его доброта для любого может служить образцом отношения к душе. Не пропустил ни одной игры, ни одной поездки. (Никита Симонян, Футбол - только ли игра? (М., Молодая гвардия)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же сказать в заключение? Да, наш Николай Петрович Старостин - один из основателей как общества, так и футбольной команды Спартак. Но всё, что сделано этим человеком, и то, что он продолжает делать, - всё это имеет далеко не местное спартаковское значение. Он яркий, колоритный представитель нашего советского значения. Словом, человек, всю свою жизнь посвятивший советскому спорту. (Лев Филатов, дело жизни - Спартак, 1971 год). По сей день болельщики "Спартака" приносили на матчи команды огромные транспоранты с фотографией Николая Петровича Старостина и с подписью "Он всё видит"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о выступле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(18.04.22) МКС - 3КС 3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официальный матч: приз открытия на кубок Б.А. Майтова (23.04.22) МКС - 3КС 5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Б"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А" (17.06.23) Красная Пресня - Динамо 3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городний матч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196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вне Москвы (14.05.22) "..."(Ярцево) - МКС 0-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народный матч (08.08.24) Пищевики - АИФ (Норвегия) 2-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СССР (29.05.36) Спартак - ЦДКА (Москва) 0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Кубка СССР (24.07.36) Динамо (Воронеж) - Спартак 0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европейского клубного турнира - Кубок Кубков (28.09.66) ОФК (Югославия) - Спартак 1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стижения клуб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чемпион СССР: 1936 (осень), 1938, 1939, 1952, 1953, 1956, 1958,1962, 1969, 1979, 1987, 1989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серебряный призер Чемпионатов СССР: 1937, 1954, 1955, 1963, 1968, 1974, 1980, 1981, 1083, 1984, 1985, 19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бронзовый призер Чемпионатов СССР: 1936, 1940, 1948, 1949 1957, 1961, 1970, 1982, 198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-кратный обладатель Кубка СССР: 1938, 1939, 1946, 1947, 1950, 1958, 1963, 1965, 1971, 199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-кратный финалист Кубка СССР: 1948, 1952, 1957, 1972, 198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чемпион России: 1992, 1993, 1994, 1996, 1997, 1998, 1999, 2000,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ребряный призер призер Чемпионата России 2005, 2006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онзовый призер чемпионата России: 1995, 200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-кратный обладатель Кубка России: 1994, 1998, 200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-кратный обладатель Кубка СНГ: 1993, 1994, 1995, 1999, 2000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ЕЧ: 1990/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ОК: 1992/9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убка УЕФА: 1997/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Кубка Анталии (Efes Pilsen Cup): 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призы клуба и футболистов времен ССС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партаковцы - лучшие футболисты страны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Ловчев - 1972 год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5320" y="285480"/>
            <a:ext cx="45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01040"/>
            <a:ext cx="745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ат Дасаев - 1982 год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Фёдор Черенков - 1983, 1989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из имени Григория Федотова (для самой результативной команды): 1958, 1968, 1969, 1979, 1981, 1985, 1987, 1989, 1991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тересные данны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чемпионатах забил Никита Симонян - 135 мяч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Никита Симонян - 34 мяча в 1950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Андрей Мовсесян - 30 мячей в 1994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одном матче забил Андрей Тихонов - 8, 02.10.93г. "Рекорду" Александров (счёт матча 8-0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игр в чемпионате страны провёл Сергей Чудин - 168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молодой игрок - Андрей Иванов. Сыграл 01.04.82г. против "Торпедо" Москва (2-1) в возрасте 14-и лет и 360 дн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возрастной игрок - Константин Рязанцев - более 38-и лет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было забито Спартаком в сезоне 1949-го года - 93 (второй показатель в истории чемпионатов СССР). 81 мяч был забит спартаковцами в 1993 году (лучший показатель первенств России). 83 в 1977-м году в первой лиге. А наименьшее число мячей - всего 12 - спартаковские голеодоры провели в первом чемпионате СССР, который состоял из 6-и встреч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Мирослав Ромащенко навечно вписал своё имя в историю московского Спартака, забив на 38 минуте 20 сентября 1997-го года в Ростове 3000-й гол спартаковцев в чемпионатах СССР, а затем России. 83 из них приходятся на турнир первой лиги (1977 год), 2 на золотой матч 1996 года с Аланией, 22 - на анулированные в разное время матчи (17, в частности, были забиты в неокончившемся чемпионате 1941 года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-й гол был забит 6 июня 1936 года во второй календарной игре первенства в ворота киевского Динамо. Отличился на 21-й минуте встречи Георгий Глазков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-й гол забил Леонид Румянцев 6-го октября 1937 года в ворота московского Металлург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-й - Виктор Семёнов 1-го октября 1938 года в ворота всё того же Металлурга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0-й гол - Виктор Терентьев в ворота московского Локомотива 17 сентября 1949 года. Спартак победил со счётом 6-4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0-й гол забил Иван Мозер в матче с Тбилисским Динамо 25-го июля 1959 года. Юбилейным стал его второй гол в матче на 20-ой минуте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500-й - Генадий Логофет в ворота СКА Ростов 15-го сентября 1969 года. Матч закончился со счётом 4-0, Галимзян Хусаинов сделал хет-трик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000-й забил Эдгар Гесс 14 мая 1981 года в Лужниках в ворота алма-атинского Кайрата. Спартак победил 3-0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00-й гол забил Сергей Родионов 16-го марта 1990 года в "Олимпийском", в драматическом матче с ЦСКА. На 85-й минуте Родионов головой замкнул фланговый навес Карпина, сделав счёт 5-4 в пользу Спартак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3000 мячей были забиты 205-ю спартаковцами, в 34-х случаях были зафиксированы автогол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Три самых блистательных матча Спартака в официальных европейских турнирах были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. В добесковский период в 7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 октября 1972 года. Мадрид, Испания. 25,000 зрител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Атлетико (Мадрид) - СПАРТАК 3-4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удья: Глекхнер (ГДР)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Голы: Редин(43,85), Пискарёв(56), Булгаков (75), Луис(77,пен.), Овехеро(83), Бекер(90). Папаев на 82 мин. не реализовал 11-метр. (выше ворот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остав Спартака:Дарвин, Логофет, Ольшанский, Ловчев, Абрамов, Зенков, Булгаков, Хусаинов, Пискарёв, Папаев, Редин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. В бесковский период в 8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40720" y="272880"/>
            <a:ext cx="4608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ноября 1983 года. Бирмингем, Англия. 40.0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стон Вилла (обладатель Суперкубка Европы) - СПАРТАК 1-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Мюльдер (Гол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Витхе(1),Черенков(46,89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Дасаев,Сочнов, Поздняков, Базулев, Бубнов,Е. Кузнецов, Гладилин, Морозов, Гаврилов, Черенков, Радион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В романцевский период в 90-х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 марта 1991года Мадрид, Испания.90,2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 (Мадрид) - СПАРТАК 1-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Уодлл (Шот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Бутрагеньо(10), Радченко(20,38), Шмаров(64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Черчесов, Базулев, Кульков, Попов, Поздняков, О.Иванов, Шалимов, Шмаров, Попович (Бушманов, 89), Рад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у и имя московскому Спартаку придумал отец-основатель этого общества Николай Старостин. Рассказывают, когда обсуждалось название, руководители долго не могли прийти к единому мнению. И тут взгляд Старостина случайно упал на лежавшую на столе книгу итальянца Раффаэлло Джованьоли - "Спартак", весьма популярную 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ре Советской власти. Предложение назвать клуб в честь предводителя восстания устроило всех, ибо, с одной стороны, отдавало античной героикой, а с другой — было вполне идеологически выдержанным. Вскоре Старостин сам набросал и логотип —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сно-белый ромбик с перечеркнутой буквой С. Правда, белая полоска внутри красного ромба шла тогда по другой диагонали, нежели сейчас. Более привычный нам вид эмблема обрела в 1949 г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98, когда футбольная команда вышла из состава общества Спартак, в эмблему был добавлен футбольный мяч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ле основания Премьер-лиги, каждый клуб, победивший в 5-ти чемпионатах имеет право над своей эмблемой разместить золотую звез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оме т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— единственный клуб, который во время выстраивания основных механизмов организации советского первенства по футболу в предвоенные годы (1936—1941 гг.) не опускался ниже третьего места чемпионата СССР, демонстрируя высокие волевые качества игроков и новаторство в тактической области игр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00:23Z</dcterms:created>
  <dc:creator>Николай</dc:creator>
  <dc:description/>
  <dc:language>en-US</dc:language>
  <cp:lastModifiedBy>Ирина Петровна</cp:lastModifiedBy>
  <dcterms:modified xsi:type="dcterms:W3CDTF">2009-08-17T15:14:22Z</dcterms:modified>
  <cp:revision>7</cp:revision>
  <dc:subject/>
  <dc:title>Футбол</dc:title>
</cp:coreProperties>
</file>